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FFC-1EDC-4141-817A-99BC65A2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A86-B8DC-4251-8F5F-A87899C2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7E4-F8E4-4DCC-9719-69219A76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884-744C-4D24-A15F-76A2C942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9E72-A91B-476B-A263-0D8078EF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CE5F-8B66-4DAE-8B8B-FF073295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D0AA-8280-4CA9-A1E9-C892ECA5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8D33-2A84-40E2-A6B7-F0870786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B475-97B8-4C89-A39D-1956A5C8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ACC0-5EE3-4EC1-9DD9-479F649F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2388-69BE-4DD9-8E81-9C28AA68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B2B-BB95-497D-B37A-D1948DA7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F6D-A21F-442F-BEA3-49D3F121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7F78-2F80-4095-8BA6-BD4E4877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36E3-3A20-46A9-AB4C-59047165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E81E-7DCE-4F60-8B89-D7A3F0F8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FF68-68A5-4244-B2E4-ABECFCE4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BB6-B752-46B3-A7DF-847F4FD0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5CE-0908-439F-AB91-23DBEDEA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FD0-B8B0-430B-AE24-07240A50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BE0-CC97-4C39-ACC0-FB6B5BF1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27E-3A09-4C48-A39C-52BD37BC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B86-AE5E-4C64-A2A8-453049AD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93D-D134-4BE3-A5F7-35DFC0AA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6BA2-E856-4589-A4BC-774F0040069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420B-90A6-443B-9E4C-864E25919F0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1384200" cy="1503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057400" y="6094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7267ff"/>
                </a:solidFill>
                <a:latin typeface="Times New Roman"/>
              </a:rPr>
              <a:t>Lesson 5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7267ff"/>
                </a:solidFill>
                <a:latin typeface="Times New Roman"/>
              </a:rPr>
              <a:t>W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447920" y="3200400"/>
            <a:ext cx="2133360" cy="1865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581280" y="3124080"/>
            <a:ext cx="2210040" cy="2003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638680" y="33526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7408" t="16838" r="36113" b="7403"/>
          <a:stretch/>
        </p:blipFill>
        <p:spPr>
          <a:xfrm>
            <a:off x="1143000" y="762120"/>
            <a:ext cx="7391520" cy="54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--_____the chicke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 It’s under the bo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re     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re’s     C. Where’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--______ is the duck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It’s in the bo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Where     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re’s     C. Where’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2895480"/>
            <a:ext cx="685800" cy="6858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800600"/>
            <a:ext cx="685800" cy="6858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358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828440" y="1523520"/>
            <a:ext cx="6553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Where is…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t’s  on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under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4876920"/>
            <a:ext cx="1447920" cy="1344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90720" y="990720"/>
            <a:ext cx="81532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a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how where the rabbit (fish……)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05120"/>
            <a:ext cx="685800" cy="83808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4952880"/>
            <a:ext cx="762120" cy="76212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0"/>
            <a:ext cx="685800" cy="6858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133720" y="91440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oodby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133720" y="3352680"/>
            <a:ext cx="44956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800600" y="304920"/>
            <a:ext cx="3581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ere is the cat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1219320" y="304920"/>
            <a:ext cx="6169320" cy="4106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62320" y="47242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In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e bo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724280" cy="3724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99072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ere is the ca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64832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the des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4190760"/>
            <a:ext cx="68709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t’s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under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the desk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800600" cy="3733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62720" y="914400"/>
            <a:ext cx="27432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Where is the ca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 say; You d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533520"/>
            <a:ext cx="3352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31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let's pla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057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penc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penc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on the book. It’s on the book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the book. On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1511280" cy="124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104904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914400" y="0"/>
            <a:ext cx="5975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is the dog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4100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____ the de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4119480" cy="4267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276720" y="53341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705360" cy="4325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33720" y="51055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9528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 the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48006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5257800" cy="3933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96240" y="4343400"/>
            <a:ext cx="447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t’s under the de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4-04-02T03:42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